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751-6402-4CD0-9AB2-B96A5585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45D-370C-46A3-8080-AB98519A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FEAAF-AB4F-4F7B-9B25-85AD146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34A53-812D-474A-B3FD-BE027F69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0708D-A334-47DC-B23A-A1956B2F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190A2-F5BA-4698-A588-E2754F8D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D78D0-B786-44B0-B7FD-7F11B6FA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F2659-25DD-4A94-B95A-A423A77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85405-3F4E-4B8C-8E82-F171ECA5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E39CE-7685-4564-84AC-F0789FCE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8DEF4-17DD-49DD-88F1-FB07F369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2E2C4-35D9-4B69-8CA3-161CED3F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358-012E-47EA-BAF5-0EF5E55B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4367E-EB6B-45F4-84FE-38DD780D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120A5-94CD-4814-9308-5A9FA998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F6693-4F00-4ED5-B0E5-64F41E66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D4872-3C4B-4B21-BF52-CB390F59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BA741-CBC6-4263-AE71-EE771CD7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538CD-3BC7-4CBE-AC60-0F00C97C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D1814-4D32-41D1-8877-E0D32790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AFDE4-B1DB-4CDE-86E5-36A97ED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C573B-C772-40B2-9C8D-5304BA23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D1F86-DBCA-4695-98AD-35EC71D7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6F8-DA3A-43B6-B709-E2746307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9B3E5-594A-4C0C-BBF3-BBFC89B9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54786-EB90-4E77-9B33-7F8B5B9D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C50EB-FB3B-4D64-A0E4-90EA1B1E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32772-92D2-4426-ACE5-25693188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8B32D-EEEA-4F30-9735-A48E0E21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6814F-90A2-480B-B49A-8B55DEF3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C8818-0A1A-4565-81AB-C9F559A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D457F-D23D-4E83-98F9-87B85BFC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4F57A-9E5A-4B30-B0E8-C7A2624A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CF3DD-A156-4614-984E-6E9631A4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4F22-B158-4CAD-8479-6E952852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3383D-9AE4-4838-B5B9-1616A91A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72270-8946-4A1E-BBDC-E24AC7F0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A8A45-3D82-4015-8B85-F2977DEA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A3CD8-7DF4-4BD3-9B0E-5C8BA936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75853-0A61-4EE3-981B-1B4DBD29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E248F-4202-41F6-A1E7-2487A84A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2FB16-1994-4E1F-9460-72EE5EF0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8DE80-4381-48D3-9D6A-C93A2F3D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E5BD0-7884-4247-9A3B-09648EB5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419A0-0373-4A10-AF2D-BCE1DA24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2D33-9B41-4484-A300-7232F083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CC4C4-966C-4BC7-B151-36CA665E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58C03-58E7-4623-9A5D-5BCF20B3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EAED1-C631-4554-88D4-10CC77D1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971BC-EA90-4E41-A105-EB7B95D2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6EB47-A044-4E8A-9534-140AC5EF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E1593-6FEF-42F9-AE86-0F263501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C61D9-F3A8-462C-8E03-0DCA87C5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DE2FA-D8E1-4402-8386-D3EF2891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71571-371B-475B-B15D-791CD969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67BE6-FC91-462C-A6FC-691F7BE8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106B-3B8E-4A1E-9D9D-6EA0F09D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21034-BF3E-42D1-AE1A-066A2B8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534E9-E782-458D-B7EE-D655CA12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336AB-D16E-4926-9052-5AFA5F3F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6E82E-0F74-40F8-8D84-A694814B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552B8-4288-4CAD-9628-89A88E2D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04B91-FADB-4DE5-BD93-49EFC6EA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7ED80-B095-4946-979E-765BCF8D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73CD9-B54A-460A-95EF-4D78B8A0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BA687-36BC-4D66-A945-42F435C1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F2377-2466-427D-8CA4-96532368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296F-6745-42AD-ACEF-871C64CF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8A488-D5A2-490F-8A1F-61957629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B0AF4-FA63-4122-A8CC-2225559A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56CF0-CFE7-47EF-90D9-A81060E0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04037-CAAC-4752-BA2C-37B32276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BB155-EF98-468D-A042-7181AD12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D06B1-3492-4A12-8257-49B5D48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619E4-9724-4367-A580-CEFFEE80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DF4CE-32BC-45F5-890B-55C51E17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A3AC5-C4A4-42C7-B02F-57BB37AA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4D4F0-341A-4905-9460-AA6B00B6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7DC1-35C3-43D3-AA51-7A8AE7DA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EB3C2-7913-4E8E-B821-F58A8CA5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2B719-CB97-40AF-9EFA-23230BE0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62356-5A69-4F11-840A-3AF0CFC2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41A7B-71E7-4F8D-B133-EDA1D35A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6CC9B-1F08-4764-AF0C-2F6A38CA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C1554-53C6-4D95-B76F-09EB8677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22747-1AE5-45C9-A6C3-FBC0A334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C2192-71B6-4415-9151-E5CB1F7C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1ED7B-42FC-4A03-95EE-D36579E8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D9D27-7EED-49FD-933C-F6DF633C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D33A-F5A4-48E6-B310-66BCD74C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7545C-12CC-4464-AB86-50E64F5C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343C3-3F88-449D-BC78-0925B86F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48983-C083-4269-B7A0-4BB83D1B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CA49B-7D0C-4272-840D-2E4C400C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F2EF2-4C10-4134-90D4-A4EAE4EE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B9509-4471-41F4-889D-2D82F44F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69D2D-CDAB-48A6-96F0-51DC8E87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D481C-CCB1-4B8E-8D4C-9FE51252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2859D-E03F-4167-87F9-10053B2D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50145-3E37-4061-9571-6D46EBA7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9B7A-EC7E-4F05-AF1D-D24E9029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9852A-9774-414B-8BF3-10A94CBE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7980A-1940-487D-A51A-2CBA8754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5555AB-B6DE-44FE-B64D-8B7B68F0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CA534-DFE8-4147-9607-E0F48B1B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E18F0-28F9-4871-9839-DA7E22C1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57C21-7ED0-4B8F-83A5-113C40DA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32F0A-288A-40BF-9205-688BEA1D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ED487-A1E3-4651-B341-6A305CB6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756D5-BD9F-457C-9DA6-A679C32B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96143-446F-48A7-8C99-3AD9796F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1C5-E5EB-4C6A-880E-6F09F68F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6607-A8E8-4F27-9DDD-3DF80911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3E0C4-3803-4A44-BB5C-1F61D0B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D1D0C-6614-45EA-85FD-7B2A1373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1769D-C88D-40A3-A7D4-3D20F7D6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D5AB3-8446-44C2-A720-39D2D766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64AF9-CA37-45EA-A80F-ABC0E292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40CD9-77DD-4E03-BA86-12F861F8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50EE1A-37FA-49FE-BD43-E07B09BD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4A3BE-CEB0-4954-923D-A364A2D0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15E20-F9AC-463D-8418-8A6598B7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0CFE7-E646-4DD1-9767-2FB43E4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D5FD-8477-437C-A04D-8696724F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D4D66-64FB-475A-AF00-8F9A7EE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D51A9-779B-46CF-9399-335A1B6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9DEC0-4FB1-4475-B1BB-0D1BB8F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8AC24-2CE5-40ED-9123-9F71F72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DC286-7963-4330-9657-C7A265BF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58A71-A65C-4637-AEBC-C5BEADBD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7F8611-C5A1-44E1-92D8-7AB4D0EB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32387A-4842-4574-880F-BEC31935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414398-FE4B-4F5E-9AF5-19606809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BA9267-9984-4C8D-B679-DE066DED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72EB-22ED-4996-B2E7-062B30E8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14C8E4-2E77-4029-A2D7-89533F42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40E7D-CF29-40E1-8259-ACD3A393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4BD490-B829-419D-8C2A-34B26751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131A4-D9CE-40AF-A98A-232CBFC1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11633A-EBD2-4982-B59E-C087FC28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DD1CC-6367-41FA-B820-8F6DCDF7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A523D-813D-4A10-BD61-A76C4EBD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6069E-C9D2-411B-B2FC-CC8B3881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8C7B3D-6FD4-4BD5-AF77-4B19D1F6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4CE4F-14C4-48EE-97B0-851A6260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1C80-67C9-447C-BAC0-6C5D963B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1DD58-48C9-4A48-AEF6-27C2A9CB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786AB-D857-40FA-A70F-E93FD0A0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1A0E5-9A2D-46E7-A216-0D87FCB7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2C798D-B7BD-4DA6-9299-BD6E714E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84D7C-27A0-4FB5-A2C2-0967E01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D51C9F-E7D3-4011-86B4-51322F8F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C89FB-89BC-4F31-B2FD-215E483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C818EB-AA9B-40FC-AC07-8F47756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83D6F7-6CBD-459F-912E-4BA157C5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E2516-AECB-49A4-A067-D61039E9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5998-31FD-4B79-9BFC-DC8B5723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45C5E0-A951-459A-8EEF-BF5AB147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FEFBB-C57F-4297-BF94-DED12AD9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56E197-352E-4567-83FF-64E5473F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8BC02-306B-4DCF-BF4B-855E038C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F0EE6-0C2C-43F9-8A7A-B219018E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8919DA-3419-445C-B0CB-02AA1302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53E20D-D935-47A0-A72B-4C821011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CC157-85DC-45E2-B853-636976B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3C46D-B21F-4D6D-BA28-88F5231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59376-D1A8-4008-A464-92E27AC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DE4F-94BF-43E6-9075-BC553F5D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56854-CAD3-44E9-B646-110E5F4E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760F8-1C20-4B04-9F92-B2228812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E66924-F963-42AE-ACA5-4689CE6D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60D8F-7D7C-44FF-AE92-1C225BD2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06B6-93C3-4069-80AF-28BAF8F4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5E76-1581-43FF-81CA-F9321EE5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FEF9-EC03-416E-A1FB-1C5EA930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F02-1F6E-4010-BD50-81A9D978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2256-A896-483F-9EE9-5D216469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D8B6-093D-4976-8037-D63C16A3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DA950-2F57-44A5-AE64-F9EC59C9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A5A8-642F-4F6F-A0D5-AC4D536D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6E8B-F40C-42B9-8E1A-D46B8656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95BE-0126-4D08-A70F-FD81294E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8028-BC38-4331-B391-B46D6D0C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DB99-ADDF-471A-A0B6-294B4647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F87C-0C14-4FE7-87E1-A424AD4D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30FC-65F3-4362-830A-5775D960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238-F0C6-4F94-8686-E1572E2E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2BF5-B47C-4DBE-AFCD-ECA2500B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2C88-A6F7-4DA2-9A22-0AE4FCB6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6476B-3B1E-40DD-B362-969DD432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65860-4826-41FA-A6C9-4C93A4EE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8FB15-340B-45D6-89C1-45407910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EB1D-11D0-41CB-994C-DA6AA1A2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4216-4EEA-4EC8-9837-93E8DB8D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00322-FAA0-4E0F-BA5B-6B256C62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B19F-6D0F-4F45-9F06-B70E7AA3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72B5-ED57-477C-BA20-D32BF04C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532-FA6D-496E-A340-DF64335D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7046-E455-443D-8224-B8B63B76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6D4BF-1AAD-4F2F-AC35-8980B257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7674B-AAC4-425B-86F7-0D299561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9BD3F-51B1-424F-86A1-AAEA7C6F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47875-62B4-471E-91F1-3484AB25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47CAE-9AD4-44E3-B6EF-0575F19D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76C7A-27A8-41E5-B95D-EA34ABD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F9851-7AF4-4063-B1F9-324B8E6A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13767-247B-4FC8-9416-739D33F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16A3D-8E4D-48FE-BC05-FF266915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3E9-4425-4DB1-88A0-201E4652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A082-49F1-484F-AE6A-EDEEAFF0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C6D6-E067-40A9-B831-9B3D6394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5D10D-FED0-472C-9163-ACD98747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B7A8E-5ED1-42B2-AD03-C109B98D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CB8D-6D10-4479-BF05-F24EAD53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3CFE4-2CB6-41C3-AE89-68408158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83470-2B63-4955-8D55-0C00299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1CD93-B7E3-4480-B368-53332E0A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E2428-F618-4A49-B988-CAB247A3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372D5-E337-4D18-9C17-5C914E2C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1BD-8724-4481-A70D-254469EA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377CD-0C78-444E-987D-939CE503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1CD6C-FA13-4772-B35A-CB93EE3C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6CDA7-EA1D-419D-8A4E-5053E76F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62092-B717-41F7-8011-CDE2C024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6BBBC-F061-4180-ADC1-A4AD0B9A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F5992-FD48-4B70-ABEB-02B7E2B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7726-335C-4A10-AC3F-CF7F6427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B3624-F5EA-4FA2-AAE2-1F12EA1E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0F87A-E6AA-424E-8D26-F1AC3E44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38777-ED6D-43A0-88A9-3BAE94F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8C1-D9D0-4FFA-8EE5-B4DB29E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6C81-0F9B-48FC-8610-52E91030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094E-55EA-442B-8888-619AEBE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13932-A9A6-4E7A-8FAA-5B1FBDC2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BCA02-3D14-4C8A-A37B-CFF22CE0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F3370-CD86-4767-A5C9-5E3FD2D2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AD75-081F-4CEB-BBA8-AB37F165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4BE17-5D81-4ABF-B63B-7094F7FA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E7D2A-DED8-45C9-B9B2-8FF7B5BD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DC874-BEF9-41BD-AD2E-4AFFCE87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B57FF-EE15-4D3A-8004-CE89FF77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D1E-7282-40DD-B106-38E7BB2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B4033-24A9-4BA0-912E-10426B4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3F7E-38F6-491B-B5E6-E6BF7746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0EC0E-0521-4DC6-BFB4-438E0B0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1860F-38F3-47A8-8A3A-C7DAAEDA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51C5C-094E-4D72-A06F-8807502C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0B1A6-5F33-424E-8F69-98C9C746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63694-F17A-4314-8B5D-69279A8B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F622D-FDD0-46ED-84B6-734214F4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724FA-AA38-4EF5-9CB2-DA48FF6F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99AD3-EDF6-409D-A0D7-D0B57D1D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D2EA-85F9-4152-972B-2EA32820DA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4E25-F3EF-42F3-982F-1069BA38C8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CAD2-F85E-42C3-BC92-0B51568F6F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37CC-56FE-4599-A72A-5C766AB52D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EB6D-1572-45AF-B03B-9993BD11C4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5CAF-D90F-4899-A7F8-0BF749CFD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986C-6605-424E-92DD-FDE4DE7AEF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9838-AD20-4CBE-8C15-03B45DA269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7A9E-B29B-41F9-8FFE-807BADD7C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0D5A-C154-4C0C-8E83-610723FC72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2714-246A-440F-AC0E-BEAA6F98BD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263F-79CE-4C12-B105-A62F468396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C6F0-E813-46B3-8ADE-06D3F84E8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EAA3-886A-44FF-962F-7E3A02DE2D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0AAA-3EDA-42F3-8813-69FF389A6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7229-9F23-4921-8E54-FD7E01E701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AEFD-E7A6-4DD9-8CCC-B6C5E8285D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12B7-F842-436F-9AD1-C85B13E272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6A83-8B78-486F-AE8D-FBBA18BB42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C2F9-1220-42FE-847B-1EAAF0511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42D0-4BC2-46F5-932B-9AE2A39838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7936-EBEC-4064-A9FD-CF91CB1FE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8BA9-72D0-4357-B169-12409951C6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DA1E-99F8-481A-9E0E-5809714DA7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F29C-5D3A-41D4-ABA6-7BFC2ECE9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E31-AB84-4620-ACD2-9165707630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A536-E713-4BD3-A0DD-F56EA22F42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5EB6-BA91-4480-8C6D-07FA8F3B02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C018-F86B-4A55-87B7-EC1A301401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EC45-BFDA-47DA-8440-3ABB191001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9941-EDAE-466E-A1E3-D1F217EE24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DA98-8FC7-4D19-AFB9-90473CFC6D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EB14-04C5-47F5-BF77-B6B00DBE8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A8C8-D425-4B05-AB78-66A649979E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3C69-EFBE-4763-ACA9-4FE86CEB70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6868-F177-467B-B3E7-EB764EBC69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B6E9-4576-451B-89DB-0FEDB1ACEF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7DE-3FE9-4CBC-8D42-9255311ADE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7EB1-6FC4-4CF7-A03C-42C3292BA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8B1E-114F-4242-9750-FE04D7B6C1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4360" cy="13237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6819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647640" y="853920"/>
            <a:ext cx="784872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23880" y="563400"/>
            <a:ext cx="7896240" cy="6105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7236000" y="620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1476360" y="12114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5796000" y="11970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4859280" y="1801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7307280" y="1873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1476360" y="24354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5796000" y="24494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4859280" y="3040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7307280" y="31114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2"/>
          <a:stretch/>
        </p:blipFill>
        <p:spPr>
          <a:xfrm>
            <a:off x="1476360" y="36734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3"/>
          <a:stretch/>
        </p:blipFill>
        <p:spPr>
          <a:xfrm>
            <a:off x="5651640" y="373068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4"/>
          <a:stretch/>
        </p:blipFill>
        <p:spPr>
          <a:xfrm>
            <a:off x="4788000" y="4336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5"/>
          <a:stretch/>
        </p:blipFill>
        <p:spPr>
          <a:xfrm>
            <a:off x="7236000" y="44085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6"/>
          <a:stretch/>
        </p:blipFill>
        <p:spPr>
          <a:xfrm>
            <a:off x="1405080" y="4970520"/>
            <a:ext cx="863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7"/>
          <a:stretch/>
        </p:blipFill>
        <p:spPr>
          <a:xfrm>
            <a:off x="5724360" y="498492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8"/>
          <a:stretch/>
        </p:blipFill>
        <p:spPr>
          <a:xfrm>
            <a:off x="4427640" y="558972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9"/>
          <a:stretch/>
        </p:blipFill>
        <p:spPr>
          <a:xfrm>
            <a:off x="2050920" y="6237360"/>
            <a:ext cx="11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8373" descr=""/>
          <p:cNvPicPr/>
          <p:nvPr/>
        </p:nvPicPr>
        <p:blipFill>
          <a:blip r:embed="rId1"/>
          <a:stretch/>
        </p:blipFill>
        <p:spPr>
          <a:xfrm>
            <a:off x="500040" y="552600"/>
            <a:ext cx="81439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7352" descr=""/>
          <p:cNvPicPr/>
          <p:nvPr/>
        </p:nvPicPr>
        <p:blipFill>
          <a:blip r:embed="rId1"/>
          <a:stretch/>
        </p:blipFill>
        <p:spPr>
          <a:xfrm>
            <a:off x="633240" y="271440"/>
            <a:ext cx="7877520" cy="6315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392436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01200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451640" y="1052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4643280" y="17733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3780000" y="2492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5867280" y="2492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7423200" y="2492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4543560" y="3284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4859280" y="396252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7164360" y="3933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1763640" y="472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6516720" y="472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4"/>
          <a:stretch/>
        </p:blipFill>
        <p:spPr>
          <a:xfrm>
            <a:off x="4716360" y="5445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5"/>
          <a:stretch/>
        </p:blipFill>
        <p:spPr>
          <a:xfrm>
            <a:off x="7164360" y="5445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6"/>
          <a:stretch/>
        </p:blipFill>
        <p:spPr>
          <a:xfrm>
            <a:off x="1835280" y="6165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7"/>
          <a:stretch/>
        </p:blipFill>
        <p:spPr>
          <a:xfrm>
            <a:off x="6443640" y="6165720"/>
            <a:ext cx="72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6325" descr=""/>
          <p:cNvPicPr/>
          <p:nvPr/>
        </p:nvPicPr>
        <p:blipFill>
          <a:blip r:embed="rId1"/>
          <a:stretch/>
        </p:blipFill>
        <p:spPr>
          <a:xfrm>
            <a:off x="309600" y="923760"/>
            <a:ext cx="852480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5300" descr=""/>
          <p:cNvPicPr/>
          <p:nvPr/>
        </p:nvPicPr>
        <p:blipFill>
          <a:blip r:embed="rId1"/>
          <a:stretch/>
        </p:blipFill>
        <p:spPr>
          <a:xfrm>
            <a:off x="557280" y="857160"/>
            <a:ext cx="8029440" cy="566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7380360" y="907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1763640" y="162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6443640" y="162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514836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730872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1547640" y="306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6227640" y="306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0"/>
          <a:stretch/>
        </p:blipFill>
        <p:spPr>
          <a:xfrm>
            <a:off x="5148360" y="3817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1"/>
          <a:stretch/>
        </p:blipFill>
        <p:spPr>
          <a:xfrm>
            <a:off x="7308720" y="3817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2"/>
          <a:stretch/>
        </p:blipFill>
        <p:spPr>
          <a:xfrm>
            <a:off x="1547640" y="45370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3"/>
          <a:stretch/>
        </p:blipFill>
        <p:spPr>
          <a:xfrm>
            <a:off x="6443640" y="45370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4"/>
          <a:stretch/>
        </p:blipFill>
        <p:spPr>
          <a:xfrm>
            <a:off x="5164200" y="52592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5"/>
          <a:stretch/>
        </p:blipFill>
        <p:spPr>
          <a:xfrm>
            <a:off x="7324560" y="52592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6"/>
          <a:stretch/>
        </p:blipFill>
        <p:spPr>
          <a:xfrm>
            <a:off x="1563840" y="597852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7"/>
          <a:stretch/>
        </p:blipFill>
        <p:spPr>
          <a:xfrm>
            <a:off x="6156360" y="597852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图片 54276" descr=""/>
          <p:cNvPicPr/>
          <p:nvPr/>
        </p:nvPicPr>
        <p:blipFill>
          <a:blip r:embed="rId1"/>
          <a:stretch/>
        </p:blipFill>
        <p:spPr>
          <a:xfrm>
            <a:off x="390600" y="3579840"/>
            <a:ext cx="8362800" cy="200988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54277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715080" cy="20001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3"/>
          <a:stretch/>
        </p:blipFill>
        <p:spPr>
          <a:xfrm>
            <a:off x="4284720" y="138420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4"/>
          <a:stretch/>
        </p:blipFill>
        <p:spPr>
          <a:xfrm>
            <a:off x="4284720" y="230508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5"/>
          <a:stretch/>
        </p:blipFill>
        <p:spPr>
          <a:xfrm>
            <a:off x="7294680" y="137016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6"/>
          <a:stretch/>
        </p:blipFill>
        <p:spPr>
          <a:xfrm>
            <a:off x="7624800" y="233532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7"/>
          <a:stretch/>
        </p:blipFill>
        <p:spPr>
          <a:xfrm>
            <a:off x="1835280" y="374508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8"/>
          <a:stretch/>
        </p:blipFill>
        <p:spPr>
          <a:xfrm>
            <a:off x="1979640" y="472428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9"/>
          <a:stretch/>
        </p:blipFill>
        <p:spPr>
          <a:xfrm>
            <a:off x="4932360" y="374508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0"/>
          <a:stretch/>
        </p:blipFill>
        <p:spPr>
          <a:xfrm>
            <a:off x="5148360" y="466740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1"/>
          <a:stretch/>
        </p:blipFill>
        <p:spPr>
          <a:xfrm>
            <a:off x="8101080" y="376092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2"/>
          <a:stretch/>
        </p:blipFill>
        <p:spPr>
          <a:xfrm>
            <a:off x="8101080" y="4695840"/>
            <a:ext cx="503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42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